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7D5D-2284-4128-85D2-836332E87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EB22-8F31-41AB-9C13-13799A6A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3486-7E8D-4887-B6C8-BD4267F24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45E1-DC66-418A-B86F-3E41E2A81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909A-07BE-482A-9930-468F4697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29A5-3B5F-4F9E-BEAF-4B702F6D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36D2-491A-4B4A-B530-900A3F63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9AEB-6AF3-4171-8F60-77B1E9E4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094A-B498-46B6-8205-8BC9396F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3CDC-7AF3-4452-9E87-DCBDDDA6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6B58-7625-452C-B0E3-7FCF1B9D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2CF1-0995-4B38-B1CF-5B52EAFF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C381-4685-4658-9D73-CF46AB044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70 H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ď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na toto zhrom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deni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Hľaď na toto zhromaždeni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Otče v láske bohatý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sme spol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tvojom me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iež nás Duch tvoj posvätí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 vode živej z nebies trón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j dnes svoje deti veď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by nikto z tvojho dom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odišiel smädný spä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 tvojho Slova počuť chce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pásnej pravdy jasnú zv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: ktorú až do končín ze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 moci Ducha máme nie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 :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y si naše útočišt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áštita, náš Spasit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: s tebou zvíťazíme ist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ty si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vot, spása, ci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6:57:19Z</dcterms:modified>
  <cp:revision>22</cp:revision>
  <dc:subject/>
  <dc:title>Je veľký náš Pán, on slávy je Kráľ Nech do všetkých strán  spev vrúcnych znie chvál.</dc:title>
</cp:coreProperties>
</file>